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344B-0068-48A9-9D8E-F988C1E0D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CF14-1E55-46F2-9257-140A644E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E6A0-2415-421E-9954-025F93ED3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FE6A-F33A-4DB6-A0FE-740C67295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CD99-4475-43CE-9B53-4DD9E353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BB6F-D8B4-457C-94E4-535C33F8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A1CE-2DF0-44E8-BCBE-8933C969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8437-1A58-43E9-A48B-2C47F716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F3D9-6FE5-42CB-8B47-EF39A514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8695-8EB7-45E5-9BE0-04F36C3F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E0EA-1751-4A93-8BF4-3324A501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8780-EDE8-4A8A-8EF4-DF27779C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EDAB-5CBA-411E-99F7-3FDB2D00D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1981080"/>
            <a:ext cx="80773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2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adratic Functions and Their Z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3840" y="1341360"/>
            <a:ext cx="8915400" cy="193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19160" y="3352680"/>
            <a:ext cx="8915400" cy="169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152280" y="2286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upply the missing words or phr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91120" y="1965240"/>
            <a:ext cx="167616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95680" y="196524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2575080"/>
            <a:ext cx="1523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575080"/>
            <a:ext cx="9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2955960"/>
            <a:ext cx="19810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67080" y="2955960"/>
            <a:ext cx="11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3984480"/>
            <a:ext cx="213372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14640" y="3984480"/>
            <a:ext cx="13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4594320"/>
            <a:ext cx="1523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76560" y="4594320"/>
            <a:ext cx="9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352680" y="2108160"/>
            <a:ext cx="2070360" cy="78732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grpSp>
        <p:nvGrpSpPr>
          <p:cNvPr id="56" name=""/>
          <p:cNvGrpSpPr/>
          <p:nvPr/>
        </p:nvGrpSpPr>
        <p:grpSpPr>
          <a:xfrm>
            <a:off x="533520" y="2971800"/>
            <a:ext cx="7962840" cy="1846440"/>
            <a:chOff x="533520" y="2971800"/>
            <a:chExt cx="7962840" cy="1846440"/>
          </a:xfrm>
        </p:grpSpPr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533520" y="4038480"/>
              <a:ext cx="7962840" cy="779760"/>
            </a:xfrm>
            <a:prstGeom prst="rect">
              <a:avLst/>
            </a:prstGeom>
            <a:ln w="38160">
              <a:solidFill>
                <a:srgbClr val="0066cc"/>
              </a:solidFill>
              <a:miter/>
            </a:ln>
          </p:spPr>
        </p:pic>
        <p:sp>
          <p:nvSpPr>
            <p:cNvPr id="58" name=""/>
            <p:cNvSpPr/>
            <p:nvPr/>
          </p:nvSpPr>
          <p:spPr>
            <a:xfrm>
              <a:off x="2133720" y="2971800"/>
              <a:ext cx="457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Square Root Metho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5486400" y="4191120"/>
            <a:ext cx="68580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4191120"/>
            <a:ext cx="4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2286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upply the missing words or phr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4191120"/>
            <a:ext cx="91440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24720" y="4191120"/>
            <a:ext cx="4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4038840" cy="438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2280" y="228600"/>
            <a:ext cx="87631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3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tate the quadratic formula, which gives the solution(s) of the following eq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8839440" cy="352116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152280" y="2286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4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upply the missing word or phr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29000" y="2514600"/>
            <a:ext cx="2590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3276720"/>
            <a:ext cx="167616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3276720"/>
            <a:ext cx="1523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86600" y="3733920"/>
            <a:ext cx="38088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9880" y="4114800"/>
            <a:ext cx="9907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91120" y="4495680"/>
            <a:ext cx="3808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2895480"/>
            <a:ext cx="12952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2514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10080" y="29098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32767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96080" y="32767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86200" y="41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38480" y="44337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3657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21:58:52Z</dcterms:created>
  <dc:creator>Harry S. Mills</dc:creator>
  <dc:description/>
  <dc:language>en-US</dc:language>
  <cp:lastModifiedBy>Harry S. Mills</cp:lastModifiedBy>
  <dcterms:modified xsi:type="dcterms:W3CDTF">2008-01-21T05:24:38Z</dcterms:modified>
  <cp:revision>10</cp:revision>
  <dc:subject/>
  <dc:title>Slide 1</dc:title>
</cp:coreProperties>
</file>